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D12-54E9-45D3-B7FD-4D77E692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147-DA41-40AB-B16F-995D6E91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3436-1859-416B-BDCE-C145ED60A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B740-8EA8-487B-8D74-31ABAE61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E44A-B5D9-43E8-BDDA-48887AD5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A11E-DE5D-4623-8AF6-738ACE03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1531-67AB-4475-832F-54D7F6AA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EA855-C196-4DF0-B083-FEDF0C0E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B027-65AB-40AC-AD15-EE523A5C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1DE5-2D81-4D78-948C-2638E4F6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6946-6E0A-4C08-9352-62AE0EC9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953-2518-4CAD-A52E-9196179C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EE7D7-A4C7-4247-87C5-B3E364B7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65E2-7A5D-42B3-BE18-CC6CB6D0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5223-EF0B-430E-ADE3-F87FF7E4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657C-EA18-4E71-814E-AB1BDC53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4F5F-8F34-47EA-96CC-921D571E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75B-DE6F-4764-884B-B36CBD66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E22-428B-4D76-BFA6-82F33F95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9FCF-5D31-48C5-8C1D-989DB6F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C43-FCF6-489A-AAE2-8F317D18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7D0-21A5-4034-BFB5-96DA0354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D1A-77C3-4A17-83BE-C0E2F556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B87-FFDF-49E3-B767-BD1357C5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609E-9A72-43D6-A393-31C39C974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F811-FD0D-49FC-A971-E742BA910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hythm &amp; Rhy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0666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more spirited language makes humorous situations even more humor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143000" y="2057040"/>
            <a:ext cx="693432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The Porcupine”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By Ogden Nash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 hound a porcupine nud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’t be blamed for harboring grud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know one hound that laughed all win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 a porcupine that sat on a splin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you take away the rhythm and rhyme, the humor vanish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467480" cy="34290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 hound that touches a porcup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’t be blamed for holding a gru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know one hound that laughed all winter lo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a porcupine that sat on a piece of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wis Carroll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832-189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orn in Eng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lice’s Adventures in Wonderl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rough the Looking Gl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s life was quiet and uneventful, but in works lik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Father Willia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he found escape from his serious work into a delightfully zany, topsy-turvy world that still amuses children old and you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ther William”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age 40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is poem, a young man questions his father about some rather unusual behavi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you ever asked someone what they were doing and received an explanation that made very little sense at al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imerick is a poem of five 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, second, and fifth lines have three rhythmic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hird and fourth lines have two beats and rhyme with one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always light-hearted, humorous poe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08660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with no hai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ave everyone quite a sca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 got some Rogai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w out a man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now he resembles a bear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4" descr="j0336472"/>
          <p:cNvPicPr/>
          <p:nvPr/>
        </p:nvPicPr>
        <p:blipFill>
          <a:blip r:embed="rId1"/>
          <a:stretch/>
        </p:blipFill>
        <p:spPr>
          <a:xfrm>
            <a:off x="6553080" y="464832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erick About a B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3080" cy="36576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sh that my room had a floor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don’t care so much for a do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t this walking a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out touching the gr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getting to be quite a bo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4" descr="j0304465"/>
          <p:cNvPicPr/>
          <p:nvPr/>
        </p:nvPicPr>
        <p:blipFill>
          <a:blip r:embed="rId1"/>
          <a:stretch/>
        </p:blipFill>
        <p:spPr>
          <a:xfrm rot="21444600">
            <a:off x="990720" y="4419720"/>
            <a:ext cx="758880" cy="915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j0304465"/>
          <p:cNvPicPr/>
          <p:nvPr/>
        </p:nvPicPr>
        <p:blipFill>
          <a:blip r:embed="rId2"/>
          <a:stretch/>
        </p:blipFill>
        <p:spPr>
          <a:xfrm>
            <a:off x="6324480" y="4419720"/>
            <a:ext cx="758880" cy="915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Limeri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7010280" cy="28954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very small mo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lived in a very small ho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cean’s sp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shed it away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at was left was her blouse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Picture 4" descr="j0344852"/>
          <p:cNvPicPr/>
          <p:nvPr/>
        </p:nvPicPr>
        <p:blipFill>
          <a:blip r:embed="rId1"/>
          <a:stretch/>
        </p:blipFill>
        <p:spPr>
          <a:xfrm>
            <a:off x="533520" y="533520"/>
            <a:ext cx="1652400" cy="1382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You will create a limerick similar to this one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12408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his life he hoped to be 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put on a crown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quickly fell dow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small silly man from Beij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022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ll in the blanks and create your own Limerick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27672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_____ from 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she/he hoped 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she/he 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________________________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_________ from ___________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iter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initial consonant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llus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ference to a well-known person, place, event, literary work, or work of 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alla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ong-like poem that tells a st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Blank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written in unrhymed, ten-syllable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rs. Smith’s Limerick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3200400"/>
          </a:xfrm>
          <a:prstGeom prst="rect">
            <a:avLst/>
          </a:prstGeom>
          <a:solidFill>
            <a:srgbClr val="ffef66"/>
          </a:solidFill>
          <a:ln w="381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once was a man from Jap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e while he hoped for a t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 he lay on the b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ate a ripe peach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came from a Georgia v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oem with a shape that suggests its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igu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angu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ing that is not meant to be taken literal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Fre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Ver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etry not written in a regular rhythmical pattern or me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Haiku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hree-lined Japanese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7720" y="304920"/>
            <a:ext cx="76964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ma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word or phrase that appeals to one or more of the five sen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Lyric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ly musical verse that expresses the observations and feelings of a single spe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etaph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gure of speech in which something is described as though it were something e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46784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Moo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eeling created in the reader by a literary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Narrativ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oe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tory told in 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Onomatopoei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 of words that imitate sou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Personifica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type of figurative language in which a non-human subject is given human characteris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60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fra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ly repeated line or group of line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epeti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use, more than once, of any element of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petition of sounds at the end of wor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703dff"/>
              </a:buClr>
              <a:buFont typeface="Comic Sans MS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c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752480" indent="-38088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gular pattern of rhyming words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304560"/>
            <a:ext cx="7162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Rhyth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ttern of beats or stresses in spoken or written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use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lik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make a direct comparison between two unlike ide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703dff"/>
              </a:buClr>
              <a:buFont typeface="Comic Sans MS"/>
              <a:buAutoNum type="arabicPeriod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ormal division of lines in a poem considered as a un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4038480"/>
            <a:ext cx="4038840" cy="474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Comic Sans MS"/>
              </a:rPr>
              <a:t>My love is like a red rose.</a:t>
            </a:r>
            <a:endParaRPr b="0" lang="en-US" sz="25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j0288858"/>
          <p:cNvPicPr/>
          <p:nvPr/>
        </p:nvPicPr>
        <p:blipFill>
          <a:blip r:embed="rId1"/>
          <a:stretch/>
        </p:blipFill>
        <p:spPr>
          <a:xfrm>
            <a:off x="5715000" y="3657600"/>
            <a:ext cx="1600200" cy="1309680"/>
          </a:xfrm>
          <a:prstGeom prst="rect">
            <a:avLst/>
          </a:prstGeom>
          <a:ln w="0">
            <a:noFill/>
          </a:ln>
        </p:spPr>
      </p:pic>
      <p:sp>
        <p:nvSpPr>
          <p:cNvPr id="161" name="Line 7"/>
          <p:cNvSpPr/>
          <p:nvPr/>
        </p:nvSpPr>
        <p:spPr>
          <a:xfrm>
            <a:off x="5105520" y="4343400"/>
            <a:ext cx="6094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&amp;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um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5105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umor in poetry can arise from a number of sourc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urpris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Exagger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Bringing together of unrelated things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 funny poems have two things in comm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thm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Rhym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4" descr="j0078722"/>
          <p:cNvPicPr/>
          <p:nvPr/>
        </p:nvPicPr>
        <p:blipFill>
          <a:blip r:embed="rId1"/>
          <a:stretch/>
        </p:blipFill>
        <p:spPr>
          <a:xfrm>
            <a:off x="5791320" y="1600200"/>
            <a:ext cx="2916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3T21:46:37Z</dcterms:created>
  <dc:creator>Jessica Smith</dc:creator>
  <dc:description/>
  <dc:language>en-US</dc:language>
  <cp:lastModifiedBy>Forest Hills</cp:lastModifiedBy>
  <dcterms:modified xsi:type="dcterms:W3CDTF">2010-01-26T22:26:26Z</dcterms:modified>
  <cp:revision>7</cp:revision>
  <dc:subject/>
  <dc:title>Poetry</dc:title>
</cp:coreProperties>
</file>